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CD2B-F189-4689-8F0A-CF6A0BC9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6B87-6C34-4AE9-BC75-CE12F8D9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6A79-5B94-4002-B2BF-6A182F34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BA92-67D3-49CA-90AE-A697F21C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22F2-01EB-44B2-94C2-56020692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D13C-41F9-4440-892B-F780E346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EC7A-67CD-48F7-B8C5-8FAC806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D2B4-EC2D-414E-AD2D-CF73A72D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BB0-13A2-411C-9715-074CE361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663F-92A9-472E-B6C4-5E6B91C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8739-B49D-4732-8B3C-518FBE6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3524-54D7-4C1E-80E1-B4DA0E2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7F45-78C7-4AE8-A558-38C2BAE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793-FF4B-4250-864B-9299DF5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457-A9D8-4B31-B1E1-D350350C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354B-3482-42AA-AD78-8378D8A8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F824-A178-40B3-B6B8-F18BDC1F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0183-EFCC-43F9-93E4-3F1188D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0A04-B4B7-4CB7-B471-021D237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C5BA-CA2F-4085-9684-96A7556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02C5-32CF-4D16-B2CE-658D20C5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C4E3-FC83-4B8A-8E3A-76EFE11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BBA9-3E67-4D59-BF0E-F187729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EA1C-A1C0-472E-BC3B-C4F1667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A23-7E60-4FA1-BBDE-99E021397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4FE-56ED-4206-9797-A8B7CCE0D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OLONIAL SOCIETY ON THE EVE OF REV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mrkn296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ure of Tra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being traded to Eu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Eu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iangular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5.3: Colonial Trade Patterns, c. 17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913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nial Manufa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was limited and only of secondary import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partly due to lack of money to 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partly due to lack of laborer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artly due to mercanti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b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bering was the most important manufacturing activ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ere British so hungry for American ti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Navy and merchant marines needed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British merchant marine  (Ships) was American-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in, pitch, tar and turpentine were also highly valued by sh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lumberjack"/>
          <p:cNvPicPr/>
          <p:nvPr/>
        </p:nvPicPr>
        <p:blipFill>
          <a:blip r:embed="rId1"/>
          <a:stretch/>
        </p:blipFill>
        <p:spPr>
          <a:xfrm>
            <a:off x="5867280" y="1828800"/>
            <a:ext cx="2478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Problem in the 1730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conomic problems faced US in 173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 saturated with American produc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s need cash and the only way to get cash is through sale of American go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mericans want to tap other markets to sell their go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hipping a lot of timber and food to the French West Indies, which is providing cash for Americans to buy from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lasses Act of 173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it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tent of the 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lonists re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olasses"/>
          <p:cNvPicPr/>
          <p:nvPr/>
        </p:nvPicPr>
        <p:blipFill>
          <a:blip r:embed="rId1"/>
          <a:stretch/>
        </p:blipFill>
        <p:spPr>
          <a:xfrm>
            <a:off x="579600" y="1905120"/>
            <a:ext cx="273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inant Denom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stablished (tax supported) churches were dominant in the colonies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 (Church of Eng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gational (Purit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lonists did not attend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epischurch1795"/>
          <p:cNvPicPr/>
          <p:nvPr/>
        </p:nvPicPr>
        <p:blipFill>
          <a:blip r:embed="rId1"/>
          <a:stretch/>
        </p:blipFill>
        <p:spPr>
          <a:xfrm>
            <a:off x="5619600" y="1981080"/>
            <a:ext cx="209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glican Chur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church in Ga., North and South Carolina, Va. and Mary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st in the 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Britain want to increase its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ferv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rgy was poorly tr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s lacked a bishop in America, thus all ministers had to train in Engla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sts resisted idea of an American Bi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gregational Chur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al church formally established in all NE colonies except 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hotbed for rebellion, and as rebellion neared ministers often preached sedition from the pulp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bo0767l"/>
          <p:cNvPicPr/>
          <p:nvPr/>
        </p:nvPicPr>
        <p:blipFill>
          <a:blip r:embed="rId1"/>
          <a:stretch/>
        </p:blipFill>
        <p:spPr>
          <a:xfrm>
            <a:off x="4932360" y="1981080"/>
            <a:ext cx="346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eat Awake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ess ferv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 churches struggling.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dog” min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 worried that the people had grown so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 ideas began to challenge old time reli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Features Of Colon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were growing dramat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700 and 1775 colonies doubled their population every 25 yea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for population grow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the ratio of blacks to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% of population lived in rural a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lonies_1763"/>
          <p:cNvPicPr/>
          <p:nvPr/>
        </p:nvPicPr>
        <p:blipFill>
          <a:blip r:embed="rId1"/>
          <a:stretch/>
        </p:blipFill>
        <p:spPr>
          <a:xfrm>
            <a:off x="5398920" y="1600200"/>
            <a:ext cx="3083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reat Awake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igious revival in 1730-4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like wildfi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reaction against the rationalism and enlightenment of the period that put reason above G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against complacency of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North American Mass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nathan Edw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nathan Ed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Great Awaken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hinker; burned with 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on Sal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sermon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ners in the Hands of an Angry 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e Whit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loqu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lead people back to God through the passion of his rheto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val mee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edwards"/>
          <p:cNvPicPr/>
          <p:nvPr/>
        </p:nvPicPr>
        <p:blipFill>
          <a:blip r:embed="rId1"/>
          <a:stretch/>
        </p:blipFill>
        <p:spPr>
          <a:xfrm>
            <a:off x="6595920" y="1523880"/>
            <a:ext cx="1764000" cy="205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whitfield"/>
          <p:cNvPicPr/>
          <p:nvPr/>
        </p:nvPicPr>
        <p:blipFill>
          <a:blip r:embed="rId2"/>
          <a:stretch/>
        </p:blipFill>
        <p:spPr>
          <a:xfrm>
            <a:off x="6553080" y="3733920"/>
            <a:ext cx="1897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of the Great Awake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plit off to new chu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ed older cl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eno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issiona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ing of new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down sectional boundaries and contributed to sense of Americans as on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s and Colle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64832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view of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-Fiel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ies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Museums-157b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oneer P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could not buy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few libraries 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 typically contained dull essays and comment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g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olonial%20newspaper"/>
          <p:cNvPicPr/>
          <p:nvPr/>
        </p:nvPicPr>
        <p:blipFill>
          <a:blip r:embed="rId1"/>
          <a:stretch/>
        </p:blipFill>
        <p:spPr>
          <a:xfrm>
            <a:off x="533520" y="2590920"/>
            <a:ext cx="33336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In The Coloni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were royal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ere proprietorships ( Maryland, Pennsylvania, and Dela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had self-governing charters  (Connecticut and Rhode Islan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ime of Revolution, most were roy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Features in Gover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the colonies used a two-house legisl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s of Legis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ntrol the Gover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nd/or property-owning requirements for vote existed in all colon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ulation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population cooped up between Atlantic and Appalachi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uard of settlers across mountains and as far as Tenn. and Kentuc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., Mass., Pa, NC and Maryland were the biggest colonies, in that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y the biggest city with 34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America was a melting pot by 177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(6%) (150,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 (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uropeans (5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713560" y="457200"/>
            <a:ext cx="302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34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Colonial Societ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Europe, America was a land of equality and opportunity — except for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markable feature was the ease with which could go from rags to riches on the social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yoeman"/>
          <p:cNvPicPr/>
          <p:nvPr/>
        </p:nvPicPr>
        <p:blipFill>
          <a:blip r:embed="rId1"/>
          <a:stretch/>
        </p:blipFill>
        <p:spPr>
          <a:xfrm>
            <a:off x="457200" y="1676520"/>
            <a:ext cx="2943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Of Colonial Societ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776 social stratification beginning to set i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some barriers to upward mobility and fears that America becoming European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oumasp"/>
          <p:cNvPicPr/>
          <p:nvPr/>
        </p:nvPicPr>
        <p:blipFill>
          <a:blip r:embed="rId1"/>
          <a:stretch/>
        </p:blipFill>
        <p:spPr>
          <a:xfrm>
            <a:off x="4572000" y="1981080"/>
            <a:ext cx="4267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aday Amer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was the leading industry — 90%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acco the Staple crop in Maryland and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the prima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 in the Middle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tobacco1"/>
          <p:cNvPicPr/>
          <p:nvPr/>
        </p:nvPicPr>
        <p:blipFill>
          <a:blip r:embed="rId1"/>
          <a:stretch/>
        </p:blipFill>
        <p:spPr>
          <a:xfrm>
            <a:off x="581040" y="1523880"/>
            <a:ext cx="385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aday Amer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 standard of living compared to rest of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Industry in New Eng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ing/wh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essential Yankee 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od(NOAA_pic_for_index)"/>
          <p:cNvPicPr/>
          <p:nvPr/>
        </p:nvPicPr>
        <p:blipFill>
          <a:blip r:embed="rId1"/>
          <a:stretch/>
        </p:blipFill>
        <p:spPr>
          <a:xfrm>
            <a:off x="1905120" y="3798720"/>
            <a:ext cx="4419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20:44:53Z</dcterms:created>
  <dc:creator>John Steere</dc:creator>
  <dc:description/>
  <dc:language>en-US</dc:language>
  <cp:lastModifiedBy>Jenkins, Mark</cp:lastModifiedBy>
  <dcterms:modified xsi:type="dcterms:W3CDTF">2012-01-27T16:50:05Z</dcterms:modified>
  <cp:revision>21</cp:revision>
  <dc:subject/>
  <dc:title>Chapter 5</dc:title>
</cp:coreProperties>
</file>